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898-200B-4639-82AF-19970D0A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8DEA-27E9-42AC-9BBF-12FE4582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780-8A64-4AC5-8062-7DCBD346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ABE-0E47-47F9-985F-0C009094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708-1283-4417-9BBC-DAD72FCC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4014-51EE-41AC-905C-43965A28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8FBC-CB18-4FA2-A2DF-735418F4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E270-BCF6-4641-9531-2AE48BF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5C8B-6C08-41C1-9E15-F3AA9317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5D1-E46E-4ECD-9BB9-65233573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1695-4346-4C25-AAD9-A2D81E9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021F-E193-4D60-8E1B-E87A20C1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49DB-F781-4461-96FE-619B411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DAF4-0D46-4687-AFB6-80AC832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934A-F63A-4D37-9BCE-039299FC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35C3-EE29-43D6-9FC0-B494D2B5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AB8-1896-4E30-BB1C-A7CDA321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51A4-6EBE-4EBA-8CF7-C1B4641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C92-D1F1-4D83-9AA8-8B7CE33A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DE6-07B2-4116-B618-01FA33BD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874-7742-4BA7-B506-7C213C64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EE-0773-4E6E-9ABC-3D47603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2485-1AEC-4384-91F5-C018886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644-3AA3-4352-BE58-C039293A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E4C-2C59-4AE8-A61D-224A713AEC1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A56-598D-40A2-BFA8-D1DEB33E1F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cs and Ritua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s believed pharaoh was son of Horus; made pharaoh a god and the high priest of Egy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morning pharaoh went to temple to awaken idol of Ho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ed and clothed idol, gave it food, and put makeup on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nhotep IV:  only pharaoh who tried to change Egypt’s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ieved there was only one great god, 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araoh changed his own name to Akhena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ests did not like losing power and people did not want to give up old g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khenaton was murd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9052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utankhamen (1358-1339 B.C.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tankhamen: --became Pharaoh at 10 y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d when he was 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famous for much except his tom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mb discovered intact by Howard Carter in 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ms in his tomb teach us how pharaohs lived and d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utankhame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317680" cy="3057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95880" y="1219320"/>
            <a:ext cx="2832120" cy="3286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4638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New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eses II: one of the last pharaohs who kept empire stro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eated the Hitt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temples, like Karn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d colossal statues made of him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warrior, wise, and k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629400" y="152280"/>
            <a:ext cx="230832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29200" y="3733920"/>
            <a:ext cx="4114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New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Rameses’ death, Egypt grew wea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 years later, Egypt was attacked and taken over by foreign invad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ptians were polytheists (worshipped many go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:  Egyptian sun god; created and rule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ests combined him with their god, Amon, to make Amon-Ra; this made the priests very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245280" y="1143000"/>
            <a:ext cx="2631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ris: god of the underworld; jackal-hea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death, Egyptian traveled to Hall of Judgment; Osiris weighed the person’s heart against the feather of jus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 had to quote from Book of the Dead, saying that they were p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1529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743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is:  Osiris’ wife; protected child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rus:  Osiris and Isis’ son; body of man and head of falcon or haw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527560" cy="5029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324480" y="2057400"/>
            <a:ext cx="2590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n in Ancient Egyp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iris, Isis, and Horus were model Egyptian fami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thor: goddess of love; body of woman and head of c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" descr="Hathor"/>
          <p:cNvPicPr/>
          <p:nvPr/>
        </p:nvPicPr>
        <p:blipFill>
          <a:blip r:embed="rId1"/>
          <a:stretch/>
        </p:blipFill>
        <p:spPr>
          <a:xfrm>
            <a:off x="6248520" y="2743200"/>
            <a:ext cx="2500200" cy="3581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38307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3:37Z</dcterms:created>
  <dc:creator>erin.hendricks</dc:creator>
  <dc:description/>
  <dc:language>en-US</dc:language>
  <cp:lastModifiedBy>erin.hendricks</cp:lastModifiedBy>
  <dcterms:modified xsi:type="dcterms:W3CDTF">2011-09-21T13:34:48Z</dcterms:modified>
  <cp:revision>2</cp:revision>
  <dc:subject/>
  <dc:title>Relics and Rituals</dc:title>
</cp:coreProperties>
</file>